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A42-5E7A-45F0-A3D7-E6183452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A39-8CF4-48C2-8764-FA759CB6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64CC0-3BAB-4E0D-BFB6-438A8F70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CE59A-1D44-4FB5-AEC9-6CE73922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DE83E-DB91-48D1-A060-78B30C3F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F971B-B5D4-411B-A950-89B217A7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6DB1F-4314-43F7-95CD-F122E185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21051-F726-4C67-9EB5-D6CEE0F1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BFD1-537B-41E3-89A9-70B6E480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6EEC7-DA67-41A1-A505-4F0EC316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DD4AF-D8C2-49F4-BE2E-2B67AD29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B30E2-4F9F-47DA-BCDA-9E1EDC7A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E5A-06F5-4A3B-B402-03225B84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95EA1-A87E-4213-8F26-908A4929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8D911-23E0-4918-8FFB-036BECF9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1AF5A-D6FC-4AC4-B713-03EF2F3A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04224-5E5F-4520-9318-AFBA0960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34280-93FA-42D8-8270-9CC80946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25D63-95FD-4207-93F3-D622953E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6A9B1-E8C3-4049-B48E-95AD2386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C6CAA-E889-494C-B753-0A6359D2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725A6-402D-437C-ACA2-685F7E06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27EC7-2543-44FF-89C1-C00E5348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AE7-5CFC-448E-826B-958F0F41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B5278-2FAF-46A0-AECA-D152CC70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4D905-B760-45FD-AE3A-3BC3FCC10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93102-003C-4ABF-B207-F85ABD9E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1961F-0B6E-42FD-960A-1999C08B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9BEED-A09E-4354-BB36-4D723A26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21FEF-9E48-49C8-939C-61037095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AFC2D-2ECA-4E7E-8114-EDFD1BEF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A6A4B-EABC-42E2-BA6C-34F1CD27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974C3-7B92-405A-8D87-D7ADEB6E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CB61F-A384-46B2-9894-509887CB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1AA0-0859-48B3-BAD1-C5EFC254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85631-F34E-41F0-ADF7-BC39F6FE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62B4B-D6D5-4224-A960-0E22F6C0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D7A25-AF94-4FD9-AED1-03ECE209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D9037-DBB2-447C-AE92-28A4B00C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C5498-D77D-4D76-9D17-AD1E1182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08044-FE65-4D90-AD9E-B5BDEEC5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9B56A-2837-48A7-989A-0074D480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D7C22-AAB0-41E1-8FF0-8A1E5406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A6551-0FC3-46AA-86A9-F588C66D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1B34CB-A566-43F8-A3F5-6412CB7C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7CF5-E938-41CC-BAD5-FCCEA1D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7C0E8-E5B5-456C-A2B4-9CCCC040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84DF9-AC7A-4ADD-913F-B4F0041A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A66CC-41DF-42D8-A9E8-A6591BCB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6A4CD-AB45-40F1-B0BB-F4D85689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EA08E-6C8A-46CF-A020-7F885A75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1FE1F-91A1-43C8-86CD-5D9ABD8B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EBBC1-88CD-4983-B11E-00CEF09E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92FE2-5E20-44BD-A265-DCAADDC0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6E82A-5467-4797-9F6F-1294D332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44985-26DE-4EC1-89B9-C51C891E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1218-5C23-4E46-9BF7-F6C30B6D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A081D-6C8C-4BF7-9BCD-9FF626D2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3D7A3-6FE5-4935-AEA3-8D00E863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58A34-44CE-4BCE-B4AB-BC247A3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22747-A0E7-4B27-BAF0-7802060A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3AC3C-9CD3-487D-BFBA-9B1A5680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28E2F-3385-44EA-BCE6-B48D5CED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B57CDB-EEE8-41E6-A7EF-C2F66C30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D5C64-5FFC-49C3-BFFA-6EF0D471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0540F-5A9D-4204-B8BC-008106C6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40D6F-2366-49F2-A6AB-747399AE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7518-7653-4340-BDDF-03187D59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3D78C-E4B8-4D63-8A7A-EFDFCB00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3F12BE-939E-485C-A4AC-BEDDBF14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CBC0E-5F6D-4739-AE60-622FEF05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3332E-40CC-4CF0-A92D-0138566F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F920C9-C982-4E64-A922-66FE6115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190302-080D-4522-BE32-97EBA3CE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E53BA7-EEE2-4191-A816-25C7BAE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7915E9-0ECD-4366-8D1D-85049763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1FBB1-CE97-4D09-B716-96C8028F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4F025-40E7-455D-868F-3587DA3B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1330-343A-4D1E-9C15-A9E509FB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AABC2-22B5-4D83-B914-165E4D51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98EBE8-914F-49AA-809B-4EBC0AFE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B610C-EB81-4772-B4E1-1355294B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8751D-865C-4387-AF13-3129E498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F7D9C3-C2C3-4E7C-B12F-82C2B64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073B97-02C2-4BFF-AC4B-66985838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87284D-F15E-4524-A56B-06A95A0A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D61B09-BBBE-4C8F-BADB-0889683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AC2D3C-9F66-4805-BFA4-A892866C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A38AE-2749-4F74-B8E4-BA80ABEE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7C53-C3B6-440D-8F3D-95744E2B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27767-F5FA-44C4-BBE5-F2AE22112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9F910-67FC-4340-994C-575F9845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2703D1-F4B4-47FF-B391-7FDFDCC8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B19D9-4E23-4166-AFCB-32E19FC1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855EF-83E9-4972-83F0-D51C0A28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AA369-FB18-49BF-A590-39DCAF6A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7D76A2-91ED-4B1C-92EB-00CE67BD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4FA37-040C-4095-B1EA-DFB12A9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0524B-7F62-4EA1-A51C-9FBB645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061878-C43F-4666-8D3F-A8D47030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CDAC-95AC-4ACF-8AE1-78B8AA53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FC7FE-5BC9-497D-81B7-AF87CB69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D208CD-F16A-4137-ADA9-D565637B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023A4-5129-46ED-AE28-2B72D6E8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DAB3D-5B24-440C-A85D-FA6502C1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D28874-2306-4A55-BE07-01542066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FFA51-8692-4D66-997D-1C3AC67E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EEC65-9FA5-4078-A8B3-F1F95E90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C9A8E-CA15-46CB-9633-5455D376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E31BB-11F8-48F4-906D-758EE650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D38F7E-3FD1-4263-8D28-D4E05C01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81A8-702B-4879-B10E-8907B383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3BE-6B53-4AF9-BDEA-0D01C989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63A712-E2D9-4FAA-9323-2C8CE335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8A83A0-83A4-48E4-88B0-FA177D38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151E40-64AB-4782-B43F-EF0403CB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2C278-B74F-428D-BBE9-A3F29FFD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49C79-13E7-4386-9BFD-6E9462CD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264A3F-1672-4C3C-8F5C-C15F6BC5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C58A3-54D8-4D8D-8D37-764579E9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EF457-1D09-4693-BD3B-19032DE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5E6285-1AD1-422A-A5F9-BFABC563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099C5-98F4-4A4E-AD16-831630B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A5E2-AC5E-451D-BD6B-99EE8E25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F524C-E09C-4496-A217-7217A8D3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72A6DF-6A7A-4D60-8FA4-CEA95568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52CD90-AB24-44FC-A72D-A1841569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9DC49F-83EA-43E9-B5E7-3DDFBAA2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B9B62D-E5FB-47BA-B6CA-2CD48A81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B215E-D4F6-4C42-B9F3-90BB3554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B729B4-78DD-47E9-8743-839E02BE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51EC17-64BD-4BA8-B6D7-C3DCCA85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F3C42F-9620-461A-B53F-92BA191B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69295B-BD55-4680-B1FF-58794A68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F8FA-7C65-4049-ABE6-96725A33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5C0F14-2311-46CF-8302-A90D059D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05496-EF68-422E-91ED-927DA9A7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155E6C-2742-4274-92DE-D08493FC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F1CA0C-853C-4A64-981B-2E2B815D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0390CD-5982-45F8-B5C8-C98DC061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9A6542-94C9-4CA7-9D48-E1AE7039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3D50D0-86E7-4BC5-ABF3-082C12FB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463A60-5106-49D8-B1CE-CE1D0660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8A2E77-19DA-4C94-AD32-766F9D91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ED218A-E627-4158-95F4-C09869B8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AB94-1769-4A97-8B4F-04B48845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56B70-CEC8-4E97-B457-19AD396F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5DBD9-95C1-47B9-9040-3E966B0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CC5C4-34CD-4CE2-B3B8-6C5BA89D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F1940-5418-48B6-B84D-4BB185A7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E7C14-B7AD-4353-A5F6-8FB41C0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F67E19-F392-4904-B7E7-ADA4EFB3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1916B-29D4-4D7B-966A-113D138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0F4F4-5FAF-44BA-88BF-52CC0BE1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C20646-B7A9-4E80-8CB5-3E4DCF8B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862A2D-3036-47B2-AED6-3C6B697A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87B8-E29F-41F7-B138-48ABDFD0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369A2-25DF-4F01-A35A-8990C043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D85533-27EE-46D8-BBB3-BDE41E65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A9D38C-A8AA-4170-B1F8-521F0C0E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E124A5-E1F2-40F1-8474-CBD08288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C0E18-8829-4554-8A22-5078EA99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E5504-F6AB-4E58-B809-C35A176F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8CDC2F-547C-4D8C-84A2-AFE9989E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E86087-CDBE-44D4-A3B2-9DB7F9E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F6797D-F07E-4625-A77E-D846268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DD4B12-B2B5-48D2-BBD0-0CF66507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9DE6-4A59-4D6E-8043-5571931F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7BA8EF-AE86-443B-AFB2-D818705F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60408-D87E-4F0C-A131-2AB54F2C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720C04-AF38-4073-8B83-B126AC8C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9D83-23A0-4CE0-AC2B-FC9BD248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78FB-DC11-423A-8F4C-BE1AB83B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9A84C-BC04-4E4B-B0C4-8B28310C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6C2D-BD49-44B9-8ACD-7DF2EBA6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05C5-BD46-4598-B918-B4386828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5D491-87F3-4115-9DD8-485B60A7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E7B2-B942-43CD-A84B-FA8EC652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3E13-27E4-4E7F-87E9-4C846FC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CDD76-84E6-4039-B529-EF3210D2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4535-3375-44D2-AFDD-747B8B9E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32D9-6AF6-4544-8CDE-9102A7790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CF320-B568-4021-8A85-239BAD70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6BD3-A983-4643-BA74-BE44FD24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87BBE-568B-4C6C-9498-BBD4BAB9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2F1E8-C00F-424D-BCA4-04769DD6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5AA-46C8-4342-A5DC-FA54A3F3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0349-7516-4380-924D-F45D661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D757-ED80-47C6-AAB9-598DF26A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7643-8A8A-4A2C-BF19-42CF7AB7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20259-3458-44E0-8949-38E7132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0A4AC-EE7D-4967-972E-4CA1422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ED903-93A7-419D-A7F8-91FE54EA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5F92-7950-46B5-8A57-CA646D19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08EF5-3A2D-429C-8F17-CED4F8CE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EF013-B780-4D85-9EAA-254743AF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13A50-7386-4F2A-BA9B-DE3E83AD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460-CF87-43B4-A155-BA5BFA8B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3CB87-F283-4247-8B58-F8AFD5B1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1E47F-0BAD-4117-ADAE-B46C9C6B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22B4E-56D6-41FC-B156-21A96112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79D4E-3138-48A0-BE19-55853B99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F8EFC-D562-40E6-BE5A-49F5EDED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B7054-14DF-44C1-AA67-56496B4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9398-BE66-4084-901B-0228B356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C0FA5-1E92-4B4B-A0DE-954EC0C3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B07D3-3B21-43CA-AE9E-66017BE7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A2D76-3AEB-4155-A7F3-93994261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EA2-287F-4B0C-88F2-3F25C800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D783C-DAAE-4A96-B720-E0C2D0A1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5143F-5D16-468C-9F29-670E76BB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4EF1C-55D6-46E8-8D80-9B3D551B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C9D25-A87D-4750-9B38-AB4FCF52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BDCA0-DD99-4F3E-8D3A-785EE7E5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E8880-D2BD-434C-AFD6-8E983A9C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3DC92-AF2C-434B-97A0-835830B0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1ECB-386D-4BE5-AE21-97FDC077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96414-9E3F-49D9-BBD8-B60D8FA1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0F7C8-BD00-4846-8723-87D4E17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137-28C0-4577-9DA2-59789C7B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4F75B-CA97-43B1-8FD0-03F32BCC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ECA13-2FAE-4072-876E-24B2DB07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62C4-DDC2-4BF1-9865-1C2C778EB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93060-9FB8-48BB-91BF-FE1BDF46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F4DB9-2EB2-45B1-8798-E1012332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A4702-DD55-4CA6-8B3F-66DB0800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1B8F0-A00B-4B6C-A228-F9E4868A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B77DC-6552-46D9-A17C-4A8AC04A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91C77-0A5A-43E4-B0D2-3C7DBC32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7F400-A97F-4A70-BB61-55016E94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635-688B-4CE1-8C2A-CDE08E95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3EA52-1C5E-4055-AD33-CC1F1489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63875-5D74-4974-A38A-7C81AC25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699F9-0021-49C9-9883-A6D914E3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3B0AD-53B5-4344-8348-BC923559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711D-5649-404A-A250-0ADF4397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AE747-AC8C-4554-B527-2747E235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8B152-B924-498B-AB43-6389C680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43C45-4372-4B14-9865-350CF324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6029F-C95B-4C79-AC12-0B2C0B24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8B7FE-A288-4133-859F-0C00B93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97A-67DE-4D86-949E-660BD32D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2CDA5-33AA-4092-AE04-E4A39863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D377-33F7-40D4-8DB0-790DC890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9CE7-ABAB-438E-972E-F0A6CE79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B909D-095E-4B55-A6B4-C140BBE7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16C3-0EDA-49D5-80A1-DB15F5FC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CEF6B-1993-476E-AAB5-7C8D19D3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10FCF-3FE2-4AB1-AB5A-C46D1F95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676BA-EFEB-45B1-A611-05F90F36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D4759-C19C-4C95-82A0-0725A983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4CF52-634E-4D08-AAA2-E9BCBC98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C8A8-FE4F-49B2-AAFC-5F1AB3A9E6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FEF3-F937-40FE-B654-E365EF9AC1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AED7-3249-4F63-B33F-7E4B936873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2A9B-5125-4F98-85D2-EEBFB83942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C058-ED7B-43D0-B159-5F5026DD65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5F4D-0A12-44FD-880A-85EF2B6E1F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AEE1-C709-4293-8396-5F331858E3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6326-A296-4354-A81C-7F0D4E145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C22-7776-45E9-BF58-C0E96103E6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870A-912A-4975-A142-98FFF25E0C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602A-AFA4-4F9C-8092-2F7DAA20E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1AFD-C54A-4036-9E1C-D420C759E5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FBAB-6441-45A0-B73F-02F1CD643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9360-8791-4644-B476-04EBCD005C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0078-AEB2-4518-97BA-D427F840B3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3A0F-21AD-4298-BFEC-95F13762CF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5B9F-6C9F-4556-85B0-CFD7F3647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90E9-66BE-4A6E-9C8A-6ACFE0FFE0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D760-94C6-4627-9EEF-FCB2C96A58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3658-67FE-41FF-A0D0-23330E2501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6452-7207-48AB-BB45-EAD3A6C269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9DF5-EB72-4EA1-8466-CD3E42B09A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A8BD-A6D2-4A0E-A589-73EFF0E67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FD13-66D1-42B5-852C-F579A1825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92E7-57A9-4C2C-B355-3D6AD4779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4CAE-D961-40CE-97B1-3A631E02E9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520D-8973-42D9-B3F0-2E15643A5E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4E4F-9BF1-4142-B525-EB404B941F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0162-6176-471A-B750-E59CF4061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562B-7E42-408B-8FC7-98B7665ABA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1038-7758-4F84-B34E-2F807EBE1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97B0-EC06-4685-B0FB-F9ED92A4EF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24E5-EEEF-4B29-80C3-B966AF998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25C6-9749-473C-994D-47D0DE7CE1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4F7C-CE32-48EC-9D45-4BBE3BF77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9403-3E0D-4C60-ABA3-D06FD61191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BB19-05B0-4009-919F-A5719DE7A7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1B81-291A-4070-BA7A-83B0700F65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C508-6244-456C-994E-01D4A990C3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884D-98F8-4E39-8A23-B53702850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18820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69633" descr=""/>
          <p:cNvPicPr/>
          <p:nvPr/>
        </p:nvPicPr>
        <p:blipFill>
          <a:blip r:embed="rId1"/>
          <a:stretch/>
        </p:blipFill>
        <p:spPr>
          <a:xfrm>
            <a:off x="266760" y="1281240"/>
            <a:ext cx="8610480" cy="42955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908000" y="2406600"/>
            <a:ext cx="79236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7164360" y="2406600"/>
            <a:ext cx="792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68609" descr=""/>
          <p:cNvPicPr/>
          <p:nvPr/>
        </p:nvPicPr>
        <p:blipFill>
          <a:blip r:embed="rId1"/>
          <a:stretch/>
        </p:blipFill>
        <p:spPr>
          <a:xfrm>
            <a:off x="333360" y="1085760"/>
            <a:ext cx="847728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67585" descr=""/>
          <p:cNvPicPr/>
          <p:nvPr/>
        </p:nvPicPr>
        <p:blipFill>
          <a:blip r:embed="rId1"/>
          <a:stretch/>
        </p:blipFill>
        <p:spPr>
          <a:xfrm>
            <a:off x="595440" y="928800"/>
            <a:ext cx="7953120" cy="5000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332000" y="2046240"/>
            <a:ext cx="107928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6588000" y="3730680"/>
            <a:ext cx="86364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2771640" y="4854600"/>
            <a:ext cx="590400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1042920" y="5416560"/>
            <a:ext cx="15130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6561" descr=""/>
          <p:cNvPicPr/>
          <p:nvPr/>
        </p:nvPicPr>
        <p:blipFill>
          <a:blip r:embed="rId1"/>
          <a:stretch/>
        </p:blipFill>
        <p:spPr>
          <a:xfrm>
            <a:off x="500040" y="817560"/>
            <a:ext cx="8143920" cy="59245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3492360" y="2478240"/>
            <a:ext cx="518328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755640" y="3040200"/>
            <a:ext cx="936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图片 65537" descr=""/>
          <p:cNvPicPr/>
          <p:nvPr/>
        </p:nvPicPr>
        <p:blipFill>
          <a:blip r:embed="rId1"/>
          <a:stretch/>
        </p:blipFill>
        <p:spPr>
          <a:xfrm>
            <a:off x="204840" y="1128600"/>
            <a:ext cx="8734320" cy="460080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2"/>
          <a:stretch/>
        </p:blipFill>
        <p:spPr>
          <a:xfrm>
            <a:off x="971640" y="3860640"/>
            <a:ext cx="1224000" cy="438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2124000" y="4970520"/>
            <a:ext cx="1224000" cy="438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7164360" y="4970520"/>
            <a:ext cx="647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组合 60430"/>
          <p:cNvGrpSpPr/>
          <p:nvPr/>
        </p:nvGrpSpPr>
        <p:grpSpPr>
          <a:xfrm>
            <a:off x="195120" y="28440"/>
            <a:ext cx="8948880" cy="6701040"/>
            <a:chOff x="195120" y="28440"/>
            <a:chExt cx="8948880" cy="6701040"/>
          </a:xfrm>
        </p:grpSpPr>
        <p:pic>
          <p:nvPicPr>
            <p:cNvPr id="1024" name="图片 60428" descr=""/>
            <p:cNvPicPr/>
            <p:nvPr/>
          </p:nvPicPr>
          <p:blipFill>
            <a:blip r:embed="rId1"/>
            <a:stretch/>
          </p:blipFill>
          <p:spPr>
            <a:xfrm>
              <a:off x="195120" y="128520"/>
              <a:ext cx="8753760" cy="66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Picture 1" descr=""/>
            <p:cNvPicPr/>
            <p:nvPr/>
          </p:nvPicPr>
          <p:blipFill>
            <a:blip r:embed="rId2"/>
            <a:stretch/>
          </p:blipFill>
          <p:spPr>
            <a:xfrm>
              <a:off x="6372360" y="28440"/>
              <a:ext cx="2771640" cy="500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838840" y="950760"/>
            <a:ext cx="792000" cy="312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5724360" y="1844640"/>
            <a:ext cx="792360" cy="312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8317080" y="4581360"/>
            <a:ext cx="360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223920" y="947880"/>
            <a:ext cx="8696160" cy="49622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6372360" y="184464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3419640" y="4556160"/>
            <a:ext cx="576000" cy="312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755640" y="5022720"/>
            <a:ext cx="576360" cy="312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4140360" y="5013360"/>
            <a:ext cx="57600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58373" descr=""/>
          <p:cNvPicPr/>
          <p:nvPr/>
        </p:nvPicPr>
        <p:blipFill>
          <a:blip r:embed="rId1"/>
          <a:stretch/>
        </p:blipFill>
        <p:spPr>
          <a:xfrm>
            <a:off x="219240" y="1019160"/>
            <a:ext cx="8705520" cy="4819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8317080" y="1484280"/>
            <a:ext cx="360360" cy="312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8317080" y="4970520"/>
            <a:ext cx="3603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7352" descr=""/>
          <p:cNvPicPr/>
          <p:nvPr/>
        </p:nvPicPr>
        <p:blipFill>
          <a:blip r:embed="rId1"/>
          <a:stretch/>
        </p:blipFill>
        <p:spPr>
          <a:xfrm>
            <a:off x="185760" y="923760"/>
            <a:ext cx="8772480" cy="5010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8101080" y="27082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56324" descr=""/>
          <p:cNvPicPr/>
          <p:nvPr/>
        </p:nvPicPr>
        <p:blipFill>
          <a:blip r:embed="rId1"/>
          <a:stretch/>
        </p:blipFill>
        <p:spPr>
          <a:xfrm>
            <a:off x="252360" y="747720"/>
            <a:ext cx="8639280" cy="53625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028000" y="18446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55300" descr=""/>
          <p:cNvPicPr/>
          <p:nvPr/>
        </p:nvPicPr>
        <p:blipFill>
          <a:blip r:embed="rId1"/>
          <a:stretch/>
        </p:blipFill>
        <p:spPr>
          <a:xfrm>
            <a:off x="223920" y="833400"/>
            <a:ext cx="8696160" cy="56199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8028000" y="191628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4276" descr=""/>
          <p:cNvPicPr/>
          <p:nvPr/>
        </p:nvPicPr>
        <p:blipFill>
          <a:blip r:embed="rId1"/>
          <a:stretch/>
        </p:blipFill>
        <p:spPr>
          <a:xfrm>
            <a:off x="258840" y="119160"/>
            <a:ext cx="8705880" cy="66196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236000" y="2852640"/>
            <a:ext cx="936360" cy="438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5364000" y="3400560"/>
            <a:ext cx="936720" cy="438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826920" y="3962520"/>
            <a:ext cx="453708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3851280" y="5675400"/>
            <a:ext cx="93672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2987640" y="6208560"/>
            <a:ext cx="93672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9" name="组合 52233"/>
          <p:cNvGrpSpPr/>
          <p:nvPr/>
        </p:nvGrpSpPr>
        <p:grpSpPr>
          <a:xfrm>
            <a:off x="233280" y="2038320"/>
            <a:ext cx="8677440" cy="3148200"/>
            <a:chOff x="233280" y="2038320"/>
            <a:chExt cx="8677440" cy="3148200"/>
          </a:xfrm>
        </p:grpSpPr>
        <p:pic>
          <p:nvPicPr>
            <p:cNvPr id="1050" name="图片 52231" descr=""/>
            <p:cNvPicPr/>
            <p:nvPr/>
          </p:nvPicPr>
          <p:blipFill>
            <a:blip r:embed="rId1"/>
            <a:stretch/>
          </p:blipFill>
          <p:spPr>
            <a:xfrm>
              <a:off x="233280" y="2038320"/>
              <a:ext cx="867744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1" name="图片 52232" descr=""/>
            <p:cNvPicPr/>
            <p:nvPr/>
          </p:nvPicPr>
          <p:blipFill>
            <a:blip r:embed="rId2"/>
            <a:stretch/>
          </p:blipFill>
          <p:spPr>
            <a:xfrm>
              <a:off x="743040" y="4710240"/>
              <a:ext cx="4914720" cy="4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908000" y="4667400"/>
            <a:ext cx="50508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3981600" y="4681440"/>
            <a:ext cx="5047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1:5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